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F4B0-2502-43FF-B589-B0789B72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4B1-91CB-4B6F-B19B-BE4375C2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608-516E-4250-9486-95DA61F8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CB-D969-43AC-A5A4-8F7B1E8F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D89-6FC8-41C0-8241-BD499B2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C0BD-323A-42B5-BE2C-0A362457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CAF-4A7D-4AF5-A303-79968E18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CA8-827E-4408-AF32-22742CA9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98C-949D-429B-AB9A-27FEB020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F03-7CCB-4991-A0EF-CBE05FF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871-0CB5-4480-8593-182B3484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48D-A38E-475A-835A-0C593851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D41-DBE3-4FB1-9C3E-6A39B82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2A0-2E97-41EC-83E2-83C9BEA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001-5CED-4607-8A18-4F5F461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96BE-9947-4857-BCA2-B02EC7B57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os antes.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minutos antes.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 mi amig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ras antes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No es el cumpleaños de tu mamá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la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Buenos tardes y  Si!! Mis primos estoy en mi casa. Tienen están muy felices ahora. Yo tengo a hago la trabaj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de escuela. Mi hermana esta muy energética! Ella es habla con muy gentes! ¿Dónde esta tu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no puedes venir en mi fiesta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dónde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. No puedo venir en tu fiesta. Mi familia es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ojados ahora… pero quiénes en tu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ninder : Co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1981080" y="182880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s primas son aburridas pero tus primas son muy divertidas! Ellos no tienen v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eres una feliz pequeña niña. Buenas noches Masii, te amo &lt;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horas antes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n mi fiesta estoy mi familia. Yo so muy cansadas! Buenas noches Maninder. Adiós!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horas antes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52Z</dcterms:created>
  <dc:creator>FriscoISD</dc:creator>
  <dc:description/>
  <dc:language>en-US</dc:language>
  <cp:lastModifiedBy>NYCDOE</cp:lastModifiedBy>
  <dcterms:modified xsi:type="dcterms:W3CDTF">2012-12-07T15:50:46Z</dcterms:modified>
  <cp:revision>115</cp:revision>
  <dc:subject/>
  <dc:title>Profile</dc:title>
</cp:coreProperties>
</file>